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73F4-B496-4872-93E0-92B1F808D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6A5C-2D47-4BF1-9E33-67654517B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3EA6-796F-4D68-BD77-4049FB668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1B38-6991-4FF9-AFB5-592DB3CB3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C506-E4F4-4F57-8F5E-FF196EE7D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A222-B953-4A33-B73E-2643F4D2D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23C2-9D6F-4940-BEF6-B26361284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07B4-63D8-4947-B591-1AD6A971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77D2-EE8C-405C-95A8-46A6BC54E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218F-0850-44C2-9C9A-23339A224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50B5-D323-4FE3-BD3F-BCB71EF42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EFD5-7C54-49A7-AD4B-9163C17ED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6CE4-98F6-4EF3-AD2A-31FF7A13D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93AF-5140-46AC-9636-8FC1BAA2C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F4E0-6230-4512-BBF9-FEDE46076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0F73-23E9-4934-B8D3-297B64237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3DDD-9193-4414-AE22-C75833B1B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CC6D-A02F-4EA5-A098-07F2BD8AD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70E1-6127-4C92-8CD4-5227E540E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93BA-7150-45FE-954B-37B4F69ED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B720-C97C-40B3-9676-4C1041571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2048-F5C9-45B7-AEA4-E3B366459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629C-6C79-4F7A-8455-C747B7BB2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9CB4-79A8-4AB1-A37C-D9B066BFA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30F8-BF85-403C-83BF-D63493603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54B86-9FFE-4284-98E4-2A590F51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1C243-703A-419B-B1F2-06DCDDACF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4FAA75-5B73-4071-9F36-1479A7E66E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0F6779-F559-440A-9144-212249F428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8B658F-F030-4413-A1A3-DA8A0B222D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0761B-F5BD-4DFE-B4FD-CC6573FB4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99C4B-CE2E-4046-B023-B50169754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BC386-E252-423D-A127-A526BAD98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EC9ED-6E8C-441E-BBCF-12E3AA4EF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5821A2-6890-48A7-A486-FF010C1C45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50E0DC-6BBA-4C71-AE62-F856DD43CB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0D794-8E0C-4328-B5F1-A2E007BC9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46173-53E5-4E87-802D-58E9D658F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33DE56-15F4-4144-9C9B-0D1BC5C588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6243B3-B96B-4F10-A461-8E57588168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80E137-D18C-4D9D-AA60-BE877C6D55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8C9E1D-D63A-44BE-B9A8-3ED005D2B0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B05E55-A5A5-46B9-86A5-3D2D4CDF26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DEBC42-05EA-4EC7-9109-C7EB6ABAB7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F92D88-5BFC-4927-A172-C45D6A2C74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D7D9C1-FF7C-40D1-8217-DC893809EA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850917-861A-4E13-B3EC-FB18E6EECA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4B1CB-5E95-400D-B05B-06D58F2AF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E2C503-0523-491B-9519-0A3F385583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84F03B-AEE9-4D46-B100-4473140231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CD51EA-AA8B-435C-A42F-D3FB037321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2DBF62-1306-4D7E-9167-D32040FACC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7BDCAD-77A4-4C18-90EB-311ED58E5C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436045-FA22-4515-853A-3AD04F6A48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DA9351-BD58-4C85-8512-81DD9A0A72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A31583-004D-4342-82BC-A37463A76D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08A59C-893D-4EAB-8E41-56B9D1AEAD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7251AB-A0A3-47B3-A948-8C17777ECD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F350E-2C9E-4A03-B88F-75D60335B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4A1B8E-562B-42B1-9602-51F29AC00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731AFA-391F-497F-B78E-5A2564C4AA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A8C16C-4592-4DF3-B6AE-561D1CF778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A37E2C-A9B5-458C-BCC4-256ACF7FFE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C0833C-F1F5-42EF-9A5C-5CC825257D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318E66-337D-464D-A02D-BD8EF8C5A3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18E024-3499-4841-99C9-B8CFD26495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C56A64-9CF6-4BD1-AF70-DE040A59A8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635718-CE74-4CC2-AE11-5A8210CDEE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739DFF-8419-4E27-8B2F-3C6E97BBCC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BD644-7705-40CC-8720-F70574BEC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9A2B86-074B-4D8E-83EB-3FC00D1788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759530-2B23-45D6-A2AF-C322F4B145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33C8C4-BEC1-4963-A350-16F6CEAD1A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6B972C-7C2B-4745-A42C-FE9200FE44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7FDD0C-323F-47BD-9403-B28E085D35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88961C-AA25-4970-8335-95943F733E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0B53E4-FD1D-4A1C-BE2C-3FF6196199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CEB5C6-841C-4B54-82FC-0B88CC5193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E6800B-95DA-4590-B0C5-8585979CBD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BDCDAD-3BD5-4557-A00C-82F3A4C138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73DBE-05E9-4554-9A64-C9AFBF5F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22C423-2A33-411B-9DBE-31492D0B50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B3BF7D-2652-4FAA-B001-5A356EB258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FC6467-11C2-43A0-A8A1-E9D7BD7C97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236AE0-4034-4C74-A3C3-DCC4DB2FE0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434F1D-7F0B-4600-A124-A16AEB2048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84D629-4A24-466E-8EA1-1B823E40D5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76F6F5-668F-493B-8074-499658551D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2DC749-454F-4299-ADD3-9EB70E1BA7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0B77CE-E204-458D-B9DA-DD19E2E752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EE26F1-CE4E-4AB8-A9B6-7211B437AC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D7407-A812-45C9-B286-2CF2CAE7D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EFF4EB-E8A2-45A1-881B-C524F4389F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73D042-525B-4057-B1E6-E03CBD33AD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A1BAED-E6E1-4ECA-A9D1-7679180E0E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79627B-0E15-4BD5-B0C1-B7C16A6D28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DB8288-55D3-4397-BCB2-73C1A589BE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4AB6EC-489A-4238-A1E6-1AEC6AC07B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FD23D8-6697-480A-A439-F96388F75E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0C2BD2-A4EF-4502-AF96-D76F7C03C9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3F1199-EFF1-4EA3-9024-D9671C1729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64A0A6-FC01-4E6C-BB8C-23A6D22997A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49DBD-3DB8-4325-B837-6D58868F1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FE2099-2EEC-4C88-AC15-21E5ABE389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32F755-FC14-4122-B7F5-C5CD472CF1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DFE9BA-CAD3-49B0-9E8F-8719354F63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10699A-EB04-4528-A5E7-2DE3E6AF55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0E9E1B-CEE8-4AD4-A47F-AB0B912BBB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80BC6E-AF4C-4A4C-ABE6-2166AA6199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2C270A-6AA4-400C-A7E1-9115123E1C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9F1110-5611-49CE-BBC5-5340939824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81D5A4-121C-4735-BC24-052A27D5B3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F083A5-C227-45D5-8DA0-37EA8CD0F2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4F40B-6124-4A0B-A71D-15EA3075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0EA4D6-7706-4C07-AB73-308B9043BE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15B667-E89D-4A69-957F-E9094BFDC0D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6F2CD44-99EC-4E5F-BD68-1DD4F32A5D4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226850F-D41B-421B-8C9E-36C79EB9E5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5EE2E6-3749-42F5-841C-D8B07AF880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231BA6-982B-4D1B-9497-FC6A53D192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1429FD-FFF1-4027-B66D-360E58BD037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3941E1-523F-458D-A4BD-4525E5EF66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7428E2-E2B1-4E79-A7D8-1923DA36E5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C3C491-E787-4FCD-BDCE-5DF12B15D1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8C352-349C-4399-9248-6D6A5CF2F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E2444-E96E-4F09-AAE1-5725E47E8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190B65-73ED-46CB-AA67-E08FC320CE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975AA1-645A-45E6-BD9C-F2B1DEB51C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982B9F-2852-420F-84FE-858A2EE253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2FCE1E5-8AA6-49A7-AE94-A0A3AC7DAE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22D995-3CD0-4CD9-AADF-75DDB0E507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76707D9-6A7A-48A8-81A2-71D06ECD060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EE7094-3F7F-46D5-BE92-4872B14BD4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E38210-5702-485C-9815-6F765AAB71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60B9E7-929D-440F-8C5C-6DA703D90B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30EE9F-A947-455B-9FED-2F1B8DF603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E76E-FB5A-4E74-9723-836950745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6D8ACDC-17CE-423F-8A76-79607F57A3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FD2CC5-202C-4F54-9AF6-C5FA09775C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A2D6C9-C4AF-42B0-8D92-08D7DCE91A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B3F055-CBE7-4CB0-B466-8F374C3A2D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58ACBE-B809-422E-ADD4-50D25486F3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6EA648D-E34E-4A38-B97A-DECD9175175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66281A-B3A6-4BF5-B668-A5704F67B2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331ADD9-AA6F-423E-8FCA-66EB6E1A751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168597-7B5E-4947-B9D4-8ABDB7777A0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8E0B6D-951E-46E6-A15C-2271568BEF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E57DA-292A-4419-B0CC-C71F77F4E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6F09AC-0C9B-4772-8BBE-C70E0759FA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B4C998-C347-4080-868A-40738802BA3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71725A-B2A7-477A-9750-56041BD356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6A8290-883F-41FD-990D-8AD78B32D9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DD359C-A7B7-4CAE-AA43-B0580F8403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CE242A5-9482-4E4E-B11B-66896DB71A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17E5859-2AF4-4336-A818-E1DC3F12D9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56FFAEA-94C2-418F-9CA6-12BDB45A3A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EA4FCE8-B983-4E40-930F-55BF338CD52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3E97DF5-D08A-411F-9288-D91ADEB30FA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6DDE1-FB94-4B6E-B100-4D3AEE485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D5A31B1-D996-4D25-A0DC-2B5BEA1FDB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6EB4D0-78FB-43B8-9AF1-A955F5DAD9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4671AE-4E47-4307-9B37-D4C8DD6346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A52176-5404-4DBC-ACDB-2BD885E552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B1DCDD-6288-44DD-ABF2-C9836473CF0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737CAD1-0185-4129-8484-693FFEBDAB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6287B5-631E-47FD-8DC2-04E9B8D9DE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40D608-C3E3-4E18-854E-220CACC342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6159378-9AF2-486D-91CA-E214AD69DE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0E7CC88-92C3-4478-90A4-8B6BA899ED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19A89-B656-49A8-A2FE-04E08E7CA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D96CEB-ED22-491A-BDDB-7B688D275D6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46904-11B8-4B89-AD17-474BB1DA8C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EF27C-5421-4EDB-9BED-A296406A4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48E99-EA1A-4FFE-8CC0-26C788C01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1368E5-54D6-46C5-860D-A6CEEF1C4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926AA-661F-4BAB-8D45-096CC6B9E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3159-EE9D-4A0F-9F4B-A2D2C00EC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D75C4-EA68-405D-8347-3E99CDEDE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162EB-BC3A-41AD-BF8D-3117107FB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64068-C34B-4F97-99FE-A1854B80C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CC75D-2D97-4A4F-A385-9FF7E108E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8CB85-E51E-4B8B-906F-FFA8AD862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D63EF3-E4E8-4230-A23A-A8ECE704CA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AAB8CA-B575-489E-A0E6-16A0E95595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93DDE-E7C6-4355-8D7C-B33BF77F1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A29B1-9105-41D8-BDFB-0AF9F233C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13701-77CC-43BB-BE39-6DA93BEA33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D0AE-58D3-4EB5-8ABA-6CF31C720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7082F-85EE-4F30-99C5-B0FB5F9CF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4C8C1-02D2-44CC-BBC3-8EB044829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E1D77-79D1-41BC-A8A7-619E9A247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94A2C-8C0A-4B0E-A5C4-E77EF5B8A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F5F99-FAF4-431A-A264-F2F4EDD07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F8F80-237B-4A0B-911A-F2CE30658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BABBD-3704-42C9-B3E4-07AA0A236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154EF2-FF07-420F-92E2-9EF158D88F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37E89B-AB33-441B-B1C4-39A05FB01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40062B-C3F4-4AE8-B468-31EFB304A9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1C8C-38BA-4080-A570-A9F6A73E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1A454-F178-46EB-A6A6-0A23DF5B6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8D9984-BFF2-4C5E-8E17-76416288C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6DD298-96A3-4B40-ABD8-90A42B518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0EF3B-721B-488A-BED9-0C45252CB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4D233-3391-4855-B8CA-61A6C5FC3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5486C-C292-454A-B1F2-7F9266FF5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C6176-54B5-45AC-A1DC-6F5B1CF58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821C5-B851-4965-952D-351421D46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E9CC1A-EB56-4467-A034-B8AC12FA7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F6AFBB-3214-4A32-A32F-DE828E071C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99F1-38BB-49E7-BC64-D7369AFC0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65CE81-B3EA-4899-863B-BF8EA16689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66C4B9-A4F5-4CB7-A14E-9E346AAE5E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B1A14-880A-4B1A-9903-B507867A5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6ABBD-2071-4C74-9D39-72C35C7E1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16469A-DC2C-443B-BF95-183EF75A80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03F52-DFB4-42C7-970E-5F26C9E75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75FC8E-00E1-4C3F-8902-79406E8D7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01056-2AD8-4ED1-A5C9-81EF701E8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69828-7833-45B6-9A52-E1367623D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9DF8C-4325-441D-AA7E-771F0D8DE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ECEC-B7A3-4438-95BF-4E1585D0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A42C3-410F-4939-8527-54C4A2D409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FA8B5-CBDE-449D-BA3D-11B2560AB3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48CF91-8A2F-435C-88A7-BCA8036DF8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920AA2-4540-4081-994C-850B3B6E50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30C521-314B-425D-ABA6-A46477934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85646-301C-4624-AB47-F75503984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B8081-6614-4BF9-A82B-260922E33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2C98C-792F-4264-BA50-68BEECC25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E59FB-90EA-4272-A4D6-0B481EE08C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3F0CA-16BC-4BF8-88B4-3D2AE662B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0231D-E6B6-4BEF-987F-499053DBE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4DC0F-41F0-4A74-81FF-1382E889C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C766E-D3B5-41BE-B81C-07597C66A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E995C-EBD3-4A8F-941F-5922365D0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7F78E4-454A-4993-9477-AD6FE3C65F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BA59F1-51C9-4ED8-8191-2964A88934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7BF6C1-FA3E-4B1F-934E-612774B0AC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0CA67-9FFA-4012-B67E-68DE65F860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23F59-1694-4701-A187-89A88AA6D8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CA7726-8596-412C-B3C4-DD4A0C6042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B761E-82D9-4916-AD74-B356306E0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62E2-7E73-43C8-8DF1-8308C6A4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709FC-15D1-44DD-A624-74FA90B7CC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CB017-8274-46E6-B386-AE60DB45C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0E65F-1667-4495-822F-1D1ED61A7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DC350-6CC4-42CE-9A31-F0601AE20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BB9FDB-C245-4CDC-A850-D4C9AC89C4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9412C5-60B1-43C6-A248-425715A6D7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4C788D-02BA-43BF-86F2-162E74D9D8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08CBAC-EF87-48F6-B54F-D8470B0E39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F6E50-562E-4911-B45A-39F920940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F8F36E-8880-4C09-BC8F-B4CFF161A2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FA21-DC59-451F-818B-5E269C1BC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31D6-A159-4A91-A53C-F0204FDA13D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4749-5BDA-4638-95ED-73AD69F26FF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5E91-EDBE-42E0-85D3-7D436AE67CB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1152-B9CE-4230-A2CA-683BD29EFBA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75CD-E4C2-4011-9060-D8B7B06C008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D6D5-A016-438B-9123-4FA4C5E73A77}"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7832-3714-4EEE-922B-16188DC0838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D199-5914-4E1E-B0C2-7BF090C61C1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3B45-9C4F-4AA8-AF0D-FCA954CE094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7978-35EA-47CF-8777-93EA399CF16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0120" y="-85320"/>
            <a:ext cx="2430360" cy="2250720"/>
            <a:chOff x="7170120" y="-85320"/>
            <a:chExt cx="2430360" cy="2250720"/>
          </a:xfrm>
        </p:grpSpPr>
        <p:grpSp>
          <p:nvGrpSpPr>
            <p:cNvPr id="82" name="Group 41"/>
            <p:cNvGrpSpPr/>
            <p:nvPr/>
          </p:nvGrpSpPr>
          <p:grpSpPr>
            <a:xfrm>
              <a:off x="7170120" y="-85320"/>
              <a:ext cx="2430360" cy="2250720"/>
              <a:chOff x="7170120" y="-85320"/>
              <a:chExt cx="2430360" cy="22507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0120" y="-85320"/>
                <a:ext cx="2430360" cy="2250720"/>
                <a:chOff x="7170120" y="-85320"/>
                <a:chExt cx="2430360" cy="2250720"/>
              </a:xfrm>
            </p:grpSpPr>
            <p:sp>
              <p:nvSpPr>
                <p:cNvPr id="85"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4B18-9F17-45F5-B33E-79C1257AB7C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B11B-B77C-4FF8-A5F9-3157426E06F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D7D2-8A20-41C1-A0F3-7809447D613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B97A-437C-4AB8-8777-5398C4A6707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E727-AA11-4BEA-9F19-15CFA52B3E9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9574-6BC2-42C8-949E-438F54E3E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23AB-DA85-4998-B237-076A77CD6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0120" y="-85320"/>
            <a:ext cx="2430360" cy="2250720"/>
            <a:chOff x="7170120" y="-85320"/>
            <a:chExt cx="2430360" cy="2250720"/>
          </a:xfrm>
        </p:grpSpPr>
        <p:grpSp>
          <p:nvGrpSpPr>
            <p:cNvPr id="415" name="Group 41"/>
            <p:cNvGrpSpPr/>
            <p:nvPr/>
          </p:nvGrpSpPr>
          <p:grpSpPr>
            <a:xfrm>
              <a:off x="7170120" y="-85320"/>
              <a:ext cx="2430360" cy="2250720"/>
              <a:chOff x="7170120" y="-85320"/>
              <a:chExt cx="2430360" cy="22507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0120" y="-85320"/>
                <a:ext cx="2430360" cy="2250720"/>
                <a:chOff x="7170120" y="-85320"/>
                <a:chExt cx="2430360" cy="2250720"/>
              </a:xfrm>
            </p:grpSpPr>
            <p:sp>
              <p:nvSpPr>
                <p:cNvPr id="418"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6880" y="4318920"/>
            <a:ext cx="978840" cy="1158840"/>
            <a:chOff x="7796880" y="4318920"/>
            <a:chExt cx="978840" cy="1158840"/>
          </a:xfrm>
        </p:grpSpPr>
        <p:sp>
          <p:nvSpPr>
            <p:cNvPr id="43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6880" y="4318920"/>
              <a:ext cx="978840" cy="1158840"/>
              <a:chOff x="7796880" y="4318920"/>
              <a:chExt cx="978840" cy="1158840"/>
            </a:xfrm>
          </p:grpSpPr>
          <p:sp>
            <p:nvSpPr>
              <p:cNvPr id="44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6BBA-625E-412E-BBF9-FCD6C9B9ECF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4800600" y="2362320"/>
            <a:ext cx="3182760" cy="1885680"/>
            <a:chOff x="4800600" y="2362320"/>
            <a:chExt cx="3182760" cy="1885680"/>
          </a:xfrm>
        </p:grpSpPr>
        <p:pic>
          <p:nvPicPr>
            <p:cNvPr id="948" name="Picture 11" descr="l"/>
            <p:cNvPicPr/>
            <p:nvPr/>
          </p:nvPicPr>
          <p:blipFill>
            <a:blip r:embed="rId2"/>
            <a:stretch/>
          </p:blipFill>
          <p:spPr>
            <a:xfrm>
              <a:off x="7045560" y="2362320"/>
              <a:ext cx="398520" cy="1885680"/>
            </a:xfrm>
            <a:prstGeom prst="rect">
              <a:avLst/>
            </a:prstGeom>
            <a:ln w="0">
              <a:noFill/>
            </a:ln>
          </p:spPr>
        </p:pic>
        <p:pic>
          <p:nvPicPr>
            <p:cNvPr id="949" name="Picture 14" descr="T"/>
            <p:cNvPicPr/>
            <p:nvPr/>
          </p:nvPicPr>
          <p:blipFill>
            <a:blip r:embed="rId3"/>
            <a:stretch/>
          </p:blipFill>
          <p:spPr>
            <a:xfrm>
              <a:off x="4800600" y="2362320"/>
              <a:ext cx="871200" cy="1885680"/>
            </a:xfrm>
            <a:prstGeom prst="rect">
              <a:avLst/>
            </a:prstGeom>
            <a:ln w="0">
              <a:noFill/>
            </a:ln>
          </p:spPr>
        </p:pic>
        <p:pic>
          <p:nvPicPr>
            <p:cNvPr id="950" name="Picture 15" descr="o"/>
            <p:cNvPicPr/>
            <p:nvPr/>
          </p:nvPicPr>
          <p:blipFill>
            <a:blip r:embed="rId4"/>
            <a:stretch/>
          </p:blipFill>
          <p:spPr>
            <a:xfrm>
              <a:off x="6381000" y="2362320"/>
              <a:ext cx="708840" cy="1885680"/>
            </a:xfrm>
            <a:prstGeom prst="rect">
              <a:avLst/>
            </a:prstGeom>
            <a:ln w="0">
              <a:noFill/>
            </a:ln>
          </p:spPr>
        </p:pic>
        <p:pic>
          <p:nvPicPr>
            <p:cNvPr id="951" name="Picture 16" descr="o"/>
            <p:cNvPicPr/>
            <p:nvPr/>
          </p:nvPicPr>
          <p:blipFill>
            <a:blip r:embed="rId5"/>
            <a:stretch/>
          </p:blipFill>
          <p:spPr>
            <a:xfrm>
              <a:off x="5671800" y="2362320"/>
              <a:ext cx="708840" cy="1885680"/>
            </a:xfrm>
            <a:prstGeom prst="rect">
              <a:avLst/>
            </a:prstGeom>
            <a:ln w="0">
              <a:noFill/>
            </a:ln>
          </p:spPr>
        </p:pic>
        <p:pic>
          <p:nvPicPr>
            <p:cNvPr id="952" name="Picture 18" descr="s"/>
            <p:cNvPicPr/>
            <p:nvPr/>
          </p:nvPicPr>
          <p:blipFill>
            <a:blip r:embed="rId6"/>
            <a:stretch/>
          </p:blipFill>
          <p:spPr>
            <a:xfrm>
              <a:off x="7436880" y="2362320"/>
              <a:ext cx="546480" cy="1885680"/>
            </a:xfrm>
            <a:prstGeom prst="rect">
              <a:avLst/>
            </a:prstGeom>
            <a:ln w="0">
              <a:noFill/>
            </a:ln>
          </p:spPr>
        </p:pic>
      </p:grpSp>
      <p:grpSp>
        <p:nvGrpSpPr>
          <p:cNvPr id="953" name="Group 19"/>
          <p:cNvGrpSpPr/>
          <p:nvPr/>
        </p:nvGrpSpPr>
        <p:grpSpPr>
          <a:xfrm>
            <a:off x="762120" y="2362320"/>
            <a:ext cx="3957480" cy="1885680"/>
            <a:chOff x="762120" y="2362320"/>
            <a:chExt cx="3957480" cy="1885680"/>
          </a:xfrm>
        </p:grpSpPr>
        <p:pic>
          <p:nvPicPr>
            <p:cNvPr id="954" name="Picture 8" descr="o"/>
            <p:cNvPicPr/>
            <p:nvPr/>
          </p:nvPicPr>
          <p:blipFill>
            <a:blip r:embed="rId7"/>
            <a:stretch/>
          </p:blipFill>
          <p:spPr>
            <a:xfrm>
              <a:off x="2475000" y="2362320"/>
              <a:ext cx="708840" cy="1885680"/>
            </a:xfrm>
            <a:prstGeom prst="rect">
              <a:avLst/>
            </a:prstGeom>
            <a:ln w="0">
              <a:noFill/>
            </a:ln>
          </p:spPr>
        </p:pic>
        <p:pic>
          <p:nvPicPr>
            <p:cNvPr id="955" name="Picture 9" descr="o"/>
            <p:cNvPicPr/>
            <p:nvPr/>
          </p:nvPicPr>
          <p:blipFill>
            <a:blip r:embed="rId8"/>
            <a:stretch/>
          </p:blipFill>
          <p:spPr>
            <a:xfrm>
              <a:off x="1766160" y="2362320"/>
              <a:ext cx="708840" cy="1885680"/>
            </a:xfrm>
            <a:prstGeom prst="rect">
              <a:avLst/>
            </a:prstGeom>
            <a:ln w="0">
              <a:noFill/>
            </a:ln>
          </p:spPr>
        </p:pic>
        <p:pic>
          <p:nvPicPr>
            <p:cNvPr id="956" name="Picture 10" descr="g"/>
            <p:cNvPicPr/>
            <p:nvPr/>
          </p:nvPicPr>
          <p:blipFill>
            <a:blip r:embed="rId9"/>
            <a:stretch/>
          </p:blipFill>
          <p:spPr>
            <a:xfrm>
              <a:off x="3095280" y="2362320"/>
              <a:ext cx="679320" cy="1885680"/>
            </a:xfrm>
            <a:prstGeom prst="rect">
              <a:avLst/>
            </a:prstGeom>
            <a:ln w="0">
              <a:noFill/>
            </a:ln>
          </p:spPr>
        </p:pic>
        <p:pic>
          <p:nvPicPr>
            <p:cNvPr id="957" name="Picture 12" descr="e"/>
            <p:cNvPicPr/>
            <p:nvPr/>
          </p:nvPicPr>
          <p:blipFill>
            <a:blip r:embed="rId10"/>
            <a:stretch/>
          </p:blipFill>
          <p:spPr>
            <a:xfrm>
              <a:off x="4114440" y="2362320"/>
              <a:ext cx="605160" cy="1885680"/>
            </a:xfrm>
            <a:prstGeom prst="rect">
              <a:avLst/>
            </a:prstGeom>
            <a:ln w="0">
              <a:noFill/>
            </a:ln>
          </p:spPr>
        </p:pic>
        <p:pic>
          <p:nvPicPr>
            <p:cNvPr id="958" name="Picture 17" descr="l"/>
            <p:cNvPicPr/>
            <p:nvPr/>
          </p:nvPicPr>
          <p:blipFill>
            <a:blip r:embed="rId11"/>
            <a:stretch/>
          </p:blipFill>
          <p:spPr>
            <a:xfrm>
              <a:off x="3730320" y="2362320"/>
              <a:ext cx="398520" cy="1885680"/>
            </a:xfrm>
            <a:prstGeom prst="rect">
              <a:avLst/>
            </a:prstGeom>
            <a:ln w="0">
              <a:noFill/>
            </a:ln>
          </p:spPr>
        </p:pic>
        <p:pic>
          <p:nvPicPr>
            <p:cNvPr id="959" name="Picture 7" descr="G"/>
            <p:cNvPicPr/>
            <p:nvPr/>
          </p:nvPicPr>
          <p:blipFill>
            <a:blip r:embed="rId12"/>
            <a:stretch/>
          </p:blipFill>
          <p:spPr>
            <a:xfrm>
              <a:off x="762120" y="2362320"/>
              <a:ext cx="1004040" cy="188568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106632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a:effectLst>
            <a:outerShdw dist="139498" dir="2700000" blurRad="0" rotWithShape="0">
              <a:srgbClr val="333333">
                <a:alpha val="65000"/>
              </a:srgbClr>
            </a:outerShdw>
          </a:effectLst>
        </p:spPr>
      </p:pic>
      <p:pic>
        <p:nvPicPr>
          <p:cNvPr id="980" name="Picture 7" descr=""/>
          <p:cNvPicPr/>
          <p:nvPr/>
        </p:nvPicPr>
        <p:blipFill>
          <a:blip r:embed="rId2"/>
          <a:stretch/>
        </p:blipFill>
        <p:spPr>
          <a:xfrm>
            <a:off x="3429000" y="3886200"/>
            <a:ext cx="5257800" cy="2467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11430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a:effectLst>
            <a:outerShdw dist="139498" dir="2700000" blurRad="0" rotWithShape="0">
              <a:srgbClr val="333333">
                <a:alpha val="65000"/>
              </a:srgbClr>
            </a:outerShdw>
          </a:effectLst>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a:effectLst>
            <a:outerShdw dist="139498" dir="2700000" blurRad="0" rotWithShape="0">
              <a:srgbClr val="333333">
                <a:alpha val="65000"/>
              </a:srgbClr>
            </a:outerShdw>
          </a:effectLst>
        </p:spPr>
      </p:pic>
      <p:pic>
        <p:nvPicPr>
          <p:cNvPr id="987" name="Picture 6" descr=""/>
          <p:cNvPicPr/>
          <p:nvPr/>
        </p:nvPicPr>
        <p:blipFill>
          <a:blip r:embed="rId2"/>
          <a:stretch/>
        </p:blipFill>
        <p:spPr>
          <a:xfrm>
            <a:off x="4038480" y="3352680"/>
            <a:ext cx="4191120" cy="31035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etting Documents Out</a:t>
            </a:r>
            <a:endParaRPr b="0" lang="en-US" sz="4400" spc="-1" strike="noStrike">
              <a:solidFill>
                <a:srgbClr val="333399"/>
              </a:solidFill>
              <a:latin typeface="Comic Sans MS"/>
            </a:endParaRPr>
          </a:p>
        </p:txBody>
      </p:sp>
      <p:sp>
        <p:nvSpPr>
          <p:cNvPr id="999" name=""/>
          <p:cNvSpPr txBox="1"/>
          <p:nvPr/>
        </p:nvSpPr>
        <p:spPr>
          <a:xfrm>
            <a:off x="106668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ormats  (export/save to computer)</a:t>
            </a:r>
            <a:endParaRPr b="0" lang="en-US" sz="4400" spc="-1" strike="noStrike">
              <a:solidFill>
                <a:srgbClr val="333399"/>
              </a:solidFill>
              <a:latin typeface="Comic Sans MS"/>
            </a:endParaRPr>
          </a:p>
        </p:txBody>
      </p:sp>
      <p:sp>
        <p:nvSpPr>
          <p:cNvPr id="1002" name=""/>
          <p:cNvSpPr txBox="1"/>
          <p:nvPr/>
        </p:nvSpPr>
        <p:spPr>
          <a:xfrm>
            <a:off x="114300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ndara"/>
              </a:rPr>
              <a:t>Other features</a:t>
            </a:r>
            <a:br>
              <a:rPr sz="3800"/>
            </a:br>
            <a:endParaRPr b="0" lang="en-US" sz="3800" spc="-1" strike="noStrike">
              <a:solidFill>
                <a:srgbClr val="333399"/>
              </a:solidFill>
              <a:latin typeface="Comic Sans MS"/>
            </a:endParaRPr>
          </a:p>
        </p:txBody>
      </p:sp>
      <p:sp>
        <p:nvSpPr>
          <p:cNvPr id="1006" name=""/>
          <p:cNvSpPr txBox="1"/>
          <p:nvPr/>
        </p:nvSpPr>
        <p:spPr>
          <a:xfrm>
            <a:off x="914400" y="12952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ome Numbers…</a:t>
            </a:r>
            <a:endParaRPr b="0" lang="en-US" sz="4400" spc="-1" strike="noStrike">
              <a:solidFill>
                <a:srgbClr val="333399"/>
              </a:solidFill>
              <a:latin typeface="Comic Sans MS"/>
            </a:endParaRPr>
          </a:p>
        </p:txBody>
      </p:sp>
      <p:sp>
        <p:nvSpPr>
          <p:cNvPr id="1008" name=""/>
          <p:cNvSpPr txBox="1"/>
          <p:nvPr/>
        </p:nvSpPr>
        <p:spPr>
          <a:xfrm>
            <a:off x="14479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is Google Documents?</a:t>
            </a:r>
            <a:endParaRPr b="0" lang="en-US" sz="4400" spc="-1" strike="noStrike">
              <a:solidFill>
                <a:srgbClr val="333399"/>
              </a:solidFill>
              <a:latin typeface="Comic Sans MS"/>
            </a:endParaRPr>
          </a:p>
        </p:txBody>
      </p:sp>
      <p:sp>
        <p:nvSpPr>
          <p:cNvPr id="963" name=""/>
          <p:cNvSpPr txBox="1"/>
          <p:nvPr/>
        </p:nvSpPr>
        <p:spPr>
          <a:xfrm>
            <a:off x="1295280" y="1523880"/>
            <a:ext cx="8382240" cy="4530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in the Library?</a:t>
            </a:r>
            <a:endParaRPr b="0" lang="en-US" sz="4400" spc="-1" strike="noStrike">
              <a:solidFill>
                <a:srgbClr val="333399"/>
              </a:solidFill>
              <a:latin typeface="Comic Sans MS"/>
            </a:endParaRPr>
          </a:p>
        </p:txBody>
      </p:sp>
      <p:sp>
        <p:nvSpPr>
          <p:cNvPr id="965" name=""/>
          <p:cNvSpPr txBox="1"/>
          <p:nvPr/>
        </p:nvSpPr>
        <p:spPr>
          <a:xfrm>
            <a:off x="1143000" y="14479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might it be used for?</a:t>
            </a:r>
            <a:endParaRPr b="0" lang="en-US" sz="4400" spc="-1" strike="noStrike">
              <a:solidFill>
                <a:srgbClr val="333399"/>
              </a:solidFill>
              <a:latin typeface="Comic Sans MS"/>
            </a:endParaRPr>
          </a:p>
        </p:txBody>
      </p:sp>
      <p:sp>
        <p:nvSpPr>
          <p:cNvPr id="967" name=""/>
          <p:cNvSpPr txBox="1"/>
          <p:nvPr/>
        </p:nvSpPr>
        <p:spPr>
          <a:xfrm>
            <a:off x="1295280" y="1371600"/>
            <a:ext cx="8229600" cy="49118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hare the authorshi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blog pos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y budget presentation; each library contribu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revise procedure manua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gendas for meeting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jects—organize, manag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work</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own documents “handy” for access from any Internet computer</a:t>
            </a:r>
            <a:endParaRPr b="0" lang="en-US" sz="2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does Google Docs work?</a:t>
            </a:r>
            <a:endParaRPr b="0" lang="en-US" sz="40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Bare Bones</a:t>
            </a:r>
            <a:endParaRPr b="0" lang="en-US" sz="4400" spc="-1" strike="noStrike">
              <a:solidFill>
                <a:srgbClr val="333399"/>
              </a:solidFill>
              <a:latin typeface="Comic Sans MS"/>
            </a:endParaRPr>
          </a:p>
        </p:txBody>
      </p:sp>
      <p:sp>
        <p:nvSpPr>
          <p:cNvPr id="970" name=""/>
          <p:cNvSpPr txBox="1"/>
          <p:nvPr/>
        </p:nvSpPr>
        <p:spPr>
          <a:xfrm>
            <a:off x="91440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6T16:58:50Z</cp:lastPrinted>
  <dcterms:modified xsi:type="dcterms:W3CDTF">2010-06-21T13:42:08Z</dcterms:modified>
  <cp:revision>53</cp:revision>
  <dc:subject/>
  <dc:title>Google Docs  Rocks!</dc:title>
</cp:coreProperties>
</file>